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5DF-8386-4447-8DB2-F39B0FEC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F45-6A25-441D-BCC2-C8EB5B2C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38C-DDCC-4AFF-B693-626D5621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8D9-12F5-4981-A773-B884C572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364-4586-47A4-9E8F-F54CB761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1A6-F08E-47A4-9121-5B71464A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EF0-8409-4332-BFC0-11C1CB66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22C-8E59-4217-8EDF-050E7409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386-AD27-4FB9-9871-4C4FDE62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37D-4AF1-4DD4-BE73-DF031523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BD8-044B-4091-A237-7D80CB42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CD2-D90D-4E52-AB05-52136E14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D03B-A7A2-4CD5-86DE-BDEAF508743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2480" y="5256720"/>
            <a:ext cx="312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Roman Lukáš</cp:lastModifiedBy>
  <dcterms:modified xsi:type="dcterms:W3CDTF">2003-09-17T18:05:46Z</dcterms:modified>
  <cp:revision>97</cp:revision>
  <dc:subject/>
  <dc:title>Bez nadpisu</dc:title>
</cp:coreProperties>
</file>